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.png" ContentType="image/png"/>
  <Override PartName="/ppt/media/image3.jpeg" ContentType="image/jpeg"/>
  <Override PartName="/ppt/media/image2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14.jpeg" ContentType="image/jpeg"/>
  <Override PartName="/ppt/media/image8.png" ContentType="image/png"/>
  <Override PartName="/ppt/media/image11.jpeg" ContentType="image/jpeg"/>
  <Override PartName="/ppt/media/image12.jpeg" ContentType="image/jpeg"/>
  <Override PartName="/ppt/media/image1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BBC03-E60E-4581-BBCF-E8E54F0BDBB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. Необходимо организовать 5 рабочих зон для групповой деятельности. По возможности поставить 2-3 парты для образования большой и просторной рабочей зоны. Рядом составить стулья по количеству учащих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. Используя цветные карточки (5 разных цветов) по количеству учащихся или больше, распределиться по группам. В каждой группе должно быть примерно одинаковое количество участник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итель может предложить учащимся использовать школьные планшеты, но в случае их отсутствия. Учащимся разрешается использовать свои гаджеты (телефоны). Но при этом на столе может находится только один телефон и использоваться по назначению – для работы на уро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получают маршрутные листы. Заполняют все данные. Внимательно читают каждое задание. При возникновении вопросов – задают учителю. После приступают к выполне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Выполнив каждое задание учащиеся сдают маршрутный лис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чащиеся выполняют данную работу в рабочей тетради. По окончанию выполнения задания  учащиеся сдают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вместе с учащимися обсуждает, какую работу они проделали, понравился ли им урок, что нового они узнали, чему научились, также учащиеся сами оценивают сво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пользуя игру «большой палец» учащиеся оценивают свою работу и своё эмоциональное состояние на уроке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ащиеся вытягивают вперёд куку, сжав ее в кулак и подняв большой палец. Учитель задаёт вопрос об уроке, а учащиеся отвечают, используя большой палец: Большой палец вверх – да/положительный ответ; Большой палец вниз – нет/отрицательный ответ; Большой палец расположен горизонтально – неуверен/затрудняется ответ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Учитель задаёт следующи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Была ли интересна учащимся данная форма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Хотели бы учащиеся повторить подобный формат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- Какое настроение было у учащихся по время уро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Исходя из полученной информации, учитель анализирует деятельность учащихся, по необходимости задаёт дополнительные вопросы в случае отрицательных ответ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5C9E5-4757-462E-83C9-EC81F8670C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80E28-815C-4BBE-B277-0D1D4A08D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AE509-18E2-4BAB-B5BB-E9973A92CC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9BCAC-FDCE-463D-A7A4-E63CA7930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272D-3C99-4F2D-BB3D-E5061655A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A2A77-A15B-419D-8F38-A78235BB9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7FAD6-5960-4EC6-9958-BB6822397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1202-D150-43FA-86D1-8A580E7F0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D7460-ACFA-40D3-9B63-AD7D346AB0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FE202-4C77-495F-979D-6D716176C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48432-E7BD-4267-AEE2-AEA02CC9F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3085-86B2-4C06-842F-D0845C466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911A-5110-409C-825F-5AE5D84D63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4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jpeg"/><Relationship Id="rId5" Type="http://schemas.openxmlformats.org/officeDocument/2006/relationships/image" Target="../media/image12.jpeg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28600" y="685800"/>
            <a:ext cx="6248520" cy="40687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1371240" y="1600200"/>
            <a:ext cx="426708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Организуем рабочие зоны для группового урок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2"/>
          <a:srcRect l="6222" t="18000" r="7557" b="11999"/>
          <a:stretch/>
        </p:blipFill>
        <p:spPr>
          <a:xfrm>
            <a:off x="4724280" y="3733920"/>
            <a:ext cx="3810240" cy="274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Тема: Растровая и векторная графи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79132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м понадобится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 Планшет/телефон с доступом в сеть интерн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Маршрутный лис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ажно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льзуясь школьным планшетом вы должны понимать ценность школьного имущества. Относится к оборудованию бережн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По окончанию работы необходимо закрыть все вкладки, а так же выключить устройств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400800" y="1447920"/>
            <a:ext cx="2057400" cy="2057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6477120" y="39625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Ход рабо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rcRect l="22149" t="39376" r="49664" b="14095"/>
          <a:stretch/>
        </p:blipFill>
        <p:spPr>
          <a:xfrm>
            <a:off x="304920" y="1447920"/>
            <a:ext cx="5257800" cy="48816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rcRect l="0" t="0" r="0" b="8726"/>
          <a:stretch/>
        </p:blipFill>
        <p:spPr>
          <a:xfrm>
            <a:off x="5715000" y="3657600"/>
            <a:ext cx="2743200" cy="26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Индивидуально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80773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спомним тему «Кодирование графической информации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В таблице закодировано изображение. Необходимо закрасить соответствующую ячейку с кодом «1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Например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6477120" y="3867120"/>
            <a:ext cx="2990880" cy="29908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" name=""/>
          <p:cNvGraphicFramePr/>
          <p:nvPr/>
        </p:nvGraphicFramePr>
        <p:xfrm>
          <a:off x="2590920" y="3352680"/>
          <a:ext cx="4190760" cy="3174840"/>
        </p:xfrm>
        <a:graphic>
          <a:graphicData uri="http://schemas.openxmlformats.org/drawingml/2006/table">
            <a:tbl>
              <a:tblPr/>
              <a:tblGrid>
                <a:gridCol w="1158480"/>
                <a:gridCol w="379440"/>
                <a:gridCol w="379440"/>
                <a:gridCol w="378000"/>
                <a:gridCol w="379440"/>
                <a:gridCol w="379440"/>
                <a:gridCol w="377640"/>
                <a:gridCol w="378000"/>
                <a:gridCol w="380880"/>
              </a:tblGrid>
              <a:tr h="396720">
                <a:tc>
                  <a:txBody>
                    <a:bodyPr lIns="0" rIns="0" tIns="3420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001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3492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1100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3492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1100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7080">
                <a:tc>
                  <a:txBody>
                    <a:bodyPr lIns="0" rIns="0" tIns="3492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11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6720">
                <a:tc>
                  <a:txBody>
                    <a:bodyPr lIns="0" rIns="0" tIns="3492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0011001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397080">
                <a:tc>
                  <a:txBody>
                    <a:bodyPr lIns="0" rIns="0" tIns="3564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1100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3564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110011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96720">
                <a:tc>
                  <a:txBody>
                    <a:bodyPr lIns="0" rIns="0" tIns="35640" bIns="0" anchor="t">
                      <a:noAutofit/>
                    </a:bodyPr>
                    <a:p>
                      <a:pPr marL="90360">
                        <a:lnSpc>
                          <a:spcPct val="100000"/>
                        </a:lnSpc>
                        <a:spcBef>
                          <a:spcPts val="27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00011000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4320">
                      <a:solidFill>
                        <a:srgbClr val="000000"/>
                      </a:solidFill>
                    </a:lnT>
                    <a:lnB w="432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Подведём итоги уро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" descr=""/>
          <p:cNvPicPr/>
          <p:nvPr/>
        </p:nvPicPr>
        <p:blipFill>
          <a:blip r:embed="rId1"/>
          <a:srcRect l="0" t="0" r="0" b="31564"/>
          <a:stretch/>
        </p:blipFill>
        <p:spPr>
          <a:xfrm>
            <a:off x="685800" y="2362320"/>
            <a:ext cx="7543800" cy="34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омашняя работ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78487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Подготовить сообщение об одной из программ, в которых можно редактировать векторные или растровые изображ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477120" y="3867120"/>
            <a:ext cx="2990880" cy="29908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Adobe Photoshop — Википедия"/>
          <p:cNvPicPr/>
          <p:nvPr/>
        </p:nvPicPr>
        <p:blipFill>
          <a:blip r:embed="rId2"/>
          <a:stretch/>
        </p:blipFill>
        <p:spPr>
          <a:xfrm>
            <a:off x="6172200" y="4876920"/>
            <a:ext cx="533520" cy="520560"/>
          </a:xfrm>
          <a:prstGeom prst="rect">
            <a:avLst/>
          </a:prstGeom>
          <a:ln w="0">
            <a:noFill/>
          </a:ln>
        </p:spPr>
      </p:pic>
      <p:pic>
        <p:nvPicPr>
          <p:cNvPr id="68" name="" descr="GIMP — Википедия"/>
          <p:cNvPicPr/>
          <p:nvPr/>
        </p:nvPicPr>
        <p:blipFill>
          <a:blip r:embed="rId3"/>
          <a:stretch/>
        </p:blipFill>
        <p:spPr>
          <a:xfrm>
            <a:off x="6400800" y="5486400"/>
            <a:ext cx="838080" cy="838080"/>
          </a:xfrm>
          <a:prstGeom prst="rect">
            <a:avLst/>
          </a:prstGeom>
          <a:ln w="0">
            <a:noFill/>
          </a:ln>
        </p:spPr>
      </p:pic>
      <p:pic>
        <p:nvPicPr>
          <p:cNvPr id="69" name="" descr="Пайнт нет скачать бесплатно"/>
          <p:cNvPicPr/>
          <p:nvPr/>
        </p:nvPicPr>
        <p:blipFill>
          <a:blip r:embed="rId4"/>
          <a:stretch/>
        </p:blipFill>
        <p:spPr>
          <a:xfrm>
            <a:off x="8077320" y="3200400"/>
            <a:ext cx="822240" cy="838080"/>
          </a:xfrm>
          <a:prstGeom prst="rect">
            <a:avLst/>
          </a:prstGeom>
          <a:ln w="0">
            <a:noFill/>
          </a:ln>
        </p:spPr>
      </p:pic>
      <p:pic>
        <p:nvPicPr>
          <p:cNvPr id="70" name="" descr="Canva | ВКонтакте"/>
          <p:cNvPicPr/>
          <p:nvPr/>
        </p:nvPicPr>
        <p:blipFill>
          <a:blip r:embed="rId5"/>
          <a:stretch/>
        </p:blipFill>
        <p:spPr>
          <a:xfrm>
            <a:off x="6324480" y="3962520"/>
            <a:ext cx="609840" cy="609480"/>
          </a:xfrm>
          <a:prstGeom prst="rect">
            <a:avLst/>
          </a:prstGeom>
          <a:ln w="0">
            <a:noFill/>
          </a:ln>
        </p:spPr>
      </p:pic>
      <p:pic>
        <p:nvPicPr>
          <p:cNvPr id="71" name="" descr="Krita — Википедия"/>
          <p:cNvPicPr/>
          <p:nvPr/>
        </p:nvPicPr>
        <p:blipFill>
          <a:blip r:embed="rId6"/>
          <a:stretch/>
        </p:blipFill>
        <p:spPr>
          <a:xfrm>
            <a:off x="6934320" y="3124080"/>
            <a:ext cx="914400" cy="914400"/>
          </a:xfrm>
          <a:prstGeom prst="rect">
            <a:avLst/>
          </a:prstGeom>
          <a:ln w="0">
            <a:noFill/>
          </a:ln>
        </p:spPr>
      </p:pic>
      <p:pic>
        <p:nvPicPr>
          <p:cNvPr id="72" name="" descr=""/>
          <p:cNvPicPr/>
          <p:nvPr/>
        </p:nvPicPr>
        <p:blipFill>
          <a:blip r:embed="rId7"/>
          <a:stretch/>
        </p:blipFill>
        <p:spPr>
          <a:xfrm>
            <a:off x="685800" y="2743200"/>
            <a:ext cx="3886200" cy="2914560"/>
          </a:xfrm>
          <a:prstGeom prst="rect">
            <a:avLst/>
          </a:prstGeom>
          <a:ln w="0">
            <a:noFill/>
          </a:ln>
        </p:spPr>
      </p:pic>
      <p:sp>
        <p:nvSpPr>
          <p:cNvPr id="73" name=""/>
          <p:cNvSpPr/>
          <p:nvPr/>
        </p:nvSpPr>
        <p:spPr>
          <a:xfrm>
            <a:off x="457200" y="594360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Объем 1-3 страниц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3-16T17:53:21Z</dcterms:created>
  <dc:creator>Владимир</dc:creator>
  <dc:description/>
  <dc:language>en-US</dc:language>
  <cp:lastModifiedBy>Microsoft Office</cp:lastModifiedBy>
  <dcterms:modified xsi:type="dcterms:W3CDTF">2021-03-17T04:39:32Z</dcterms:modified>
  <cp:revision>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